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4B6-F225-433E-A5FD-09F3A86B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762-DACA-47BD-8511-9BEF766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CC8-FC5E-469D-9112-3E44744A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C78-9B92-420D-ADBA-60D0FB3B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BD6C-9130-4E3B-9521-E54A8E86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C22C-3477-4E84-BABA-68E9EA9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94A-D822-4002-BA3B-B02289B8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5871-8F3B-476B-9454-4598F54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D6B-3964-416D-AC0C-F9DCDE3D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7643-0BB3-46B3-BF8F-A93273C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B2B8-0A67-49A6-B412-71CCE87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519-0E1C-4A54-AD0D-FB9750F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E7FD-FEEF-4265-A3F8-AF847839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1CA8-6820-4F34-9039-9DB0145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8F4-1B8B-4072-8D1E-D647674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6DDA-480E-4550-B773-F6A0A3B3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D595-8E26-4F93-AEC2-4AB7CC37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E4C-4016-4CD0-972E-CB680454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63F-389C-41B0-8EBA-34D0CDD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341-E2DE-4D0E-B65E-9E925A9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92D-C780-453C-96B9-D6AF640B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1E8-795D-41DE-B0CA-0D01C32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11B-28F9-49B8-920A-0CFE1FA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DAD-80D9-4E14-AAD3-56164AB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D5D-CB92-49FF-BC1E-63DF7E288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A8F-89E7-46EB-B35B-39C80367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ulh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estão de leitura: Livro do Aho, Sethi, Ullman (dragão)- Seções 5.1-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type -&gt; id               {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type.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o processo de reconhecimento, quando a produção 2 é reduzida, o atributo tipo associado ao não terminal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recebe o valor do tipo reconhe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type -&gt; id               {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type.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da produção 1 adiciona na tabela de símbolos o nome da variável e seu respectiv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bemos que em nosso modelo sendo implementado, cada símbolo não terminal foi convertido em uma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maioria das linguagens não é possível associar atributos à nome de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ntanto, esses atributos podem ser representados por parâmetros passados à função, ou mesmo um valor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na gramá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ype -&gt; id               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os dois símbolos não term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necessitamos de duas funções para implementar um analisador sintático descendente recurs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id D 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VA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Var = atomoCor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I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COL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ype( &amp;tip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dTabSimb(IDVar.lexeme, tip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 type( ttype *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omoIDTipo = atomoCorr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ch(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trID = buscaTS(atomoIDTipo.lexe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 ( !pr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(“Identificador de tipo” +atomoIDTipo.lexeme + “indefinido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 (ptrID.categoria  != IDTI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(“Identificador ” +atomoIDTipo.lexeme + “ não é identif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tipo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ptrID.ti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is seriam as ações semânticas para o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claracao_de_varia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: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::=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entificado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identific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 da compilação de linguagens guiadas por gramáticas livres de con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 informações atrelando atributos aos símbolos gramaticais que representam as constru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valores dos atributos são computados pelas ações semân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uas not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efini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squema de tra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362320"/>
            <a:ext cx="5105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895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du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648320"/>
            <a:ext cx="4114800" cy="1523880"/>
          </a:xfrm>
          <a:prstGeom prst="ellipse">
            <a:avLst/>
          </a:prstGeom>
          <a:solidFill>
            <a:srgbClr val="9991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4114800" cy="1523880"/>
          </a:xfrm>
          <a:prstGeom prst="ellipse">
            <a:avLst/>
          </a:prstGeom>
          <a:solidFill>
            <a:srgbClr val="9991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029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quema de Tra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61680" y="380988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67360" y="3879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Lingu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lux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ken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intaticamente anali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nstruída a árvore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árvore é percorrida avaliando-se a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regras semân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semânticas pod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r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lvar informações n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tir mensagens de 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zar outras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de 1 ou mais pass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implementada em uma passagem, executando as ações semânticas juntamente com a análise sint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a técnica que permite realizar tradução (geração de código) concomitantemente com 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ções semânticas são associadas às regras de produção da gramática de modo que, quando uma dada produção é processada, essas ações sejam execu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pecificações de alto 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símbolo gramatical possui um conjunto de atributos associados divididos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tributos sintetiz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valor calculado em função dos fil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tributos her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valor calculado em função dos pais e irmã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6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semânticas estabelecem dependências entre os atributos representados em um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fo determina a ordem de avaliação das re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valiação das regras semânticas gera os valores d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rvore gramatical que mostra os valores dos atributos é chamada de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árvore gramatical ano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produção A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associado a um conjunto de regras semânticas n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 := f(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função que vigora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a das seguintes situ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sintetiz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 e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atributos pertencentes aos símbolos gramaticais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herd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ertencente a um dos símbolos gramaticais do lado direito da produção e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atributos pertencentes aos símbolos gramaticais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mbos os casos, dizemos que o atributo B depende dos atributos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analisar uma definição definida pela sintaxe para uma calcu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definição associa um atributo sintetizado inteiro com os não terminais E, T e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gramática, o terminal n representa um caractere de nova li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Imprimir(E.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                   E.val:=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val + T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                         E.val:= T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  T.val:=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val * F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         T.val:= F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.val:= E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.val: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2394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9920" y="20638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vore gramatical ano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32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.lex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74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03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6110280"/>
            <a:ext cx="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8160" y="546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2760" y="431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88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673520"/>
            <a:ext cx="1440" cy="219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42920" y="4597200"/>
            <a:ext cx="649440" cy="43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460368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03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8480" y="36511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8702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3230280"/>
            <a:ext cx="79236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44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3233880"/>
            <a:ext cx="1800" cy="21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366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323064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430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88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.lex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467028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250992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2276640"/>
            <a:ext cx="936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vore gramatical anotada (forma alterna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501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609300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544500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2760" y="431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88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4673520"/>
            <a:ext cx="1440" cy="219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042920" y="4597200"/>
            <a:ext cx="649440" cy="43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460368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5013360"/>
            <a:ext cx="1224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8480" y="365112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87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val =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84360" y="3230280"/>
            <a:ext cx="79236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344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2720" y="3233880"/>
            <a:ext cx="1800" cy="21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366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323064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30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00720" y="488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67028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50992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2276640"/>
            <a:ext cx="936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5589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6560" y="537372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e a gramática simples a seguir para números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 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 1: Mostre a árvore de derivação para reconhecer o número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e a gramática simples a seguir para números sem sina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 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 2: Escreva ações semânticas para produzir e escrever como saída um número inteiro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execução das ações semânticas p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código intermedi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ou interpretar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r informações na tabela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ecar a semântica dos com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itir mensagens de err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val = 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v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* digito.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                           número.val = digito.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5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557360"/>
            <a:ext cx="79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98900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1557360"/>
            <a:ext cx="0" cy="489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: Construa a árvore gramatical anotada para o número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Sintet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tradução dirigida pela sintaxe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ssume-se que os terminais tenham somente atributos sintetizados na medida em que as definições não providencie quaisquer regras semân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valores para os atributos dos terminais costumam ser fornecidos pelo léx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ígito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.val=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Sintet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0121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tributos sintetizad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bastante usados na pr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definição dirigida pela sintaxe somente com atributos sintetizados é chamada de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definição S-atribu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costumam ser avaliados de baixo para cima, das folhas para a ra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tributos herdad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convenientes para expressar construções de LPs em relação ao contexto em que apare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nte útil na verificação de 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ar se um identificador aparece do lado esquerdo (endereço) ou direito (valor) de uma 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L                      L.in:= T.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t                        T.tipo:=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loat                     T.tipo:=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L1, id                   L1.in:= L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luir_tipo(id.entrada, L.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d                         incluir_tipo(id.entrada, L.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565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2708280"/>
            <a:ext cx="1800360" cy="1008000"/>
          </a:xfrm>
          <a:prstGeom prst="wedgeRoundRectCallout">
            <a:avLst>
              <a:gd name="adj1" fmla="val -98500"/>
              <a:gd name="adj2" fmla="val 101652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.in é um atributo her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nte a árvore gramatical anotada para a ca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 a, B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um atributo b em um nó de uma árvore de derivação depende de um atributo c, então a regra semântica de b deve ser avaliada após a regra semântica que defin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interdependências entre os atributos herdados e atributos sintetizados em uma árvore gramatical é denotada por um grafo dirigido chama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Grafo de Dependência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nstruído para uma árvore gramat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 mostra as interdependências entre os atributos dos nós da árvore grama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Definir uma ordem de avaliação das regras semânticas em uma tradução dirigida pela sint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12800" y="2760480"/>
            <a:ext cx="79581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árvore gramatica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atribu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símbolo gramatical e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 um nó par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 grafo de depend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árvore gramatica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regra semântica b:= f(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...,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= 1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é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 uma aresta a partir do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té o nó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62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0200" y="1557360"/>
            <a:ext cx="81198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egra semântica deve ser da forma b := f(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...,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fo possui um nó para cada atributo. Existe uma arest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b se o atributo b depende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tornar as ações semânticas mais efetivas, pode-se associar variáveis aos símbolos (terminais e não terminais) da gra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os símbolos gramaticais passam a conter atributos (ou parâmetros) capazes de armazenar valores durante o processo de re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dem de 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581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classificação topológ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ordenação dos nós de um grafo que segue a reg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aresta do grafo de dependências, ent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arece ante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classificação top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dem de 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classificação topológica indica uma ordem válida na qual as regras semânticas devem ser aval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quais uma regra semântica dependa b:= f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 devem estar disponíveis antes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r aval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Lingu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e uma ordenação topológica baseada em regras para a ca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loat x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representação intermediária que pode ser construída por definições dirigidas pela sint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para a tradução d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ta-se de uma form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ens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 árvore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árvore sintática (abstrata) é uma forma condensada da árvore gramatical na q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es e palavras chaves não aparecem como folhas, mas como nós interiores da ár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93000" y="3421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13360" y="4068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05360" y="4788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4788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61320" y="4195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265720" y="4284720"/>
            <a:ext cx="64764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92720" y="4343400"/>
            <a:ext cx="50508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45360" y="3708000"/>
            <a:ext cx="5760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48680" y="3728880"/>
            <a:ext cx="50472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255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332000" y="3576600"/>
            <a:ext cx="309600" cy="19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01960" y="3575160"/>
            <a:ext cx="271440" cy="23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162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49400" y="3705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3760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3760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36600" y="40892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4264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50960" y="4551480"/>
            <a:ext cx="309600" cy="19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0920" y="4549680"/>
            <a:ext cx="271440" cy="23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4240" y="45910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4680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4600" y="4735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1320" y="473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520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98492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272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2200" y="50562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56092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738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73360" y="55926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9280" y="5770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33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121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2440" y="46576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4913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Grama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peradores e palavras-chave não aparecem nas folhas, mas sim em nó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duções dirigida pela sintaxe podem ser usadas tanto e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s gramaticai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e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s sintátic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77336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a 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gramatica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sintátic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 a prod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f B then S1 else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27280" y="1700280"/>
            <a:ext cx="381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rvore Sintátic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ando condiciona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56360" y="256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f – then –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4080" y="408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94440" y="40892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360" y="4089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308280" y="302256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23040" y="3022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61480" y="30225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1700280"/>
            <a:ext cx="4103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vore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79800" y="2268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360" y="371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0480" y="371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8560" y="3716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3716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51400" y="37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65800" y="3716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02920" y="272556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265040" y="272556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32080" y="2725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08400" y="27255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272556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37000" y="272556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expressões é correspondente à construção da expressão na forma pos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possível escrever uma definição dirigida pela sintaxe para construir uma árvore sintática de um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nó da árvore sintática pode ser implementado como um registro com vários cam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nó t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mpo que identifica o ope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campos que são ponteiros para o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operador é comumente chamado de label do n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atributo é qualquer propriedade de uma construção de linguagem de program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cesso de computar um atributo e associar o seu valor computado com a construção da linguagem em questão recebe o nome 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marração do atrib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os nós de uma árvore sintática usaremos as fun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no(op, direita, esqu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o operador igual a op e dois campos com ponteiros para a subárvores esquerda e dir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folha( id, entrada_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identificador com label id e um campo contendo a entrada da 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folha( num, 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número com label id e um campo contendo o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86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ção                       Regra Semâ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T                   E.ptr:= cria_no(‘+’,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ptr, T.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                    E.ptr:= cria_no(‘-’,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ptr, T.p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                            E.ptr:= T.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)                         T.ptr:= E.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d                           T.ptr:= cria_folha(id, id.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                       T.ptr:= cria_folha(num, num.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2373480"/>
            <a:ext cx="797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14680" y="19414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300640"/>
            <a:ext cx="84358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gura 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finições dirigidas pela sintaxe para construção de uma árvore sintática de uma ex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 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gramatical anot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expressão a – 4 +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da árvore sintática em uma estrutur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2000" y="3068640"/>
            <a:ext cx="146340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69200" y="30686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26400" y="30686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9680" y="38908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0688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6408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75400" y="38908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93260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980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48052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65720" y="4805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46600" y="48052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03800" y="4805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280120" y="3251160"/>
            <a:ext cx="146376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92880" y="3251160"/>
            <a:ext cx="91440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275000" y="4073400"/>
            <a:ext cx="9144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37320" y="4073400"/>
            <a:ext cx="64116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54800" y="4805280"/>
            <a:ext cx="1096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1720" y="480528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35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2360" y="42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42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8320" y="362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12720" y="3716280"/>
            <a:ext cx="64764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39720" y="3774960"/>
            <a:ext cx="50508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3139560"/>
            <a:ext cx="5760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95680" y="3160800"/>
            <a:ext cx="5047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65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80000" y="5300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G = Directed Acyclic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grafo usado para identificar as subexpressões comuns em um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l como uma árvore sintática, um DAG possui um nó para cada subexpressão d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ferença é que no DAG um nó pode ter mais de um p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a árvore sintática, sub-expressões comuns são representadas como sub-árvores duplic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ja a expres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248000" y="38253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374920" y="38253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6000" y="4581360"/>
            <a:ext cx="136836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211280" y="4653000"/>
            <a:ext cx="144360" cy="86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07600" y="558972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-expressõe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1188000" y="414864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467280" y="414864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4437000"/>
            <a:ext cx="50508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116000" y="4508640"/>
            <a:ext cx="216000" cy="79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3240" y="537372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-expressõe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vore Sintática para a expressão            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25720" y="273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63640" y="40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45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393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201760" y="3643200"/>
            <a:ext cx="36036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76680" y="364500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16360" y="2997000"/>
            <a:ext cx="9349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997360"/>
            <a:ext cx="1081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6040" y="40179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076720" y="3557520"/>
            <a:ext cx="339840" cy="447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30760" y="355932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643280" y="4290840"/>
            <a:ext cx="28908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46560" y="4292640"/>
            <a:ext cx="289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6680" y="3959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2720" y="45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221000"/>
            <a:ext cx="21564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97360" y="51498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225960" y="4832280"/>
            <a:ext cx="28872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28880" y="4834080"/>
            <a:ext cx="289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49520" y="4492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75040" y="5122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56000" y="4511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71640" y="4221000"/>
            <a:ext cx="28908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G da a expressão                               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25720" y="273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393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76680" y="364500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16360" y="2997000"/>
            <a:ext cx="9349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11640" y="2997360"/>
            <a:ext cx="1081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6000" y="587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fo Dirigido Acíc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8436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6040" y="40179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067280" y="3557160"/>
            <a:ext cx="1349280" cy="11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30760" y="355932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4221000"/>
            <a:ext cx="50328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27480" y="5310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556080" y="4992480"/>
            <a:ext cx="288720" cy="36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59360" y="4994280"/>
            <a:ext cx="288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4653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05160" y="528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556000" y="4221000"/>
            <a:ext cx="50472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90800" y="3500280"/>
            <a:ext cx="493560" cy="1081080"/>
          </a:xfrm>
          <a:custGeom>
            <a:avLst/>
            <a:gdLst/>
            <a:ahLst/>
            <a:rect l="l" t="t" r="r" b="b"/>
            <a:pathLst>
              <a:path w="311" h="681">
                <a:moveTo>
                  <a:pt x="311" y="0"/>
                </a:moveTo>
                <a:cubicBezTo>
                  <a:pt x="193" y="79"/>
                  <a:pt x="76" y="159"/>
                  <a:pt x="38" y="273"/>
                </a:cubicBezTo>
                <a:cubicBezTo>
                  <a:pt x="0" y="387"/>
                  <a:pt x="42" y="534"/>
                  <a:pt x="84" y="681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smas definições dirigidas pela sintaxe da Figura 1 podem ser usadas para construir o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 mudarmos as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no(op, direita, esquer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folha( id, entrada_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folha( num,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funções deverão checar se o nó sendo criado já exi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Definições S-atribuí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ão aquelas que só possuem atributos sinte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alor dos atributos pode ser controlado pela pilha sintática em um parser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ad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reduç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o valor de um atributo sintetizado é calculado a partir dos símbolos empilhados que aparecem do lado direito da p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tradução dirigida pela sintaxe, os atributos são diretamente associados aos símbolos gramaticais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X for um símbolo gramatical (terminal ou não terminal),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for um atributo associado a X, escrevemos X.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o valor de a associado 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5816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000" spc="-1" strike="noStrike">
                <a:solidFill>
                  <a:srgbClr val="ff0000"/>
                </a:solidFill>
                <a:latin typeface="Arial"/>
              </a:rPr>
              <a:t>est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um ponteiro ou índice de uma tabela sintática (usa-se no entanto o símbolo gramatical para facilita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000" spc="-1" strike="noStrike">
                <a:solidFill>
                  <a:srgbClr val="ff0000"/>
                </a:solidFill>
                <a:latin typeface="Arial"/>
              </a:rPr>
              <a:t>valo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o valor do atributo associado ao nó gramatical correspondente a um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58080" y="4292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97720" y="429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26120" y="60958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21400" y="60958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30800" y="51562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26440" y="51562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6120" y="56260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21400" y="56260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16640" y="5873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73640" y="5648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30800" y="46944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26440" y="46944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4356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-&gt; XYZ    { A.a := f(X.x, Y.y, Z.z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sintetizados são avaliados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xatamente antes de cada re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XY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o configuração da pilha se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414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64000" y="414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92400" y="59529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8804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744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9272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2400" y="54831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8804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82920" y="5730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39920" y="550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9744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9272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9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Z.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.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.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-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ós a redução topo é decrementado d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64000" y="42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3640" y="4221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2040" y="60246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27680" y="60246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7080" y="508464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32360" y="508464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32040" y="55548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927680" y="55548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22560" y="580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79560" y="5576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46227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46227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5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estado que A será colocado onde estav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alor do atributo sintetizad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.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rá colocado em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val[topo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556272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556272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72200" y="464832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464832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5105520"/>
            <a:ext cx="12952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67480" y="5105520"/>
            <a:ext cx="12956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62720" y="4950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197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414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3640" y="414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3204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732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672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50133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3204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732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22200" y="57308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3672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32000" y="45514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4080" y="5452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45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                Imprimir(val[top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         val[ntopo]:= val[topo-2] +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                val[ntopo]:=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val[ntopo]:= val[topo-2] x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val[ntopo]:=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[ntopo]:= val[topo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[ntopo]: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2421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59280" y="24256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uma produção é reduzida co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ímbolos gramaticais do lado direito, tem-se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ntopo= topo-r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ois da execução de cada conjunto de regras semânticas,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topo= nto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avaliação da expressã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3*5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L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ões em que os atributos são sempre avaliados em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rdem de pesquisa em profund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definição dirigida pela sintaxe é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-atribuíd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cada atributo herdado d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onde 1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 que esteja do lado direito de uma produção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pt-B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...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r so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atributos dos símbolo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...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j-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esquerda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atributos herdados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L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d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isitar_df(n: n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da filh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esquerda para direita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os atributos herdad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itar_df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os atributos sintetizad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s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mbém são ações semânticas, tal como definições dirigidas pela sintax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 a ordem em que as regras semânticas devem ser aval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bem detalhes de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squema de traduçã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a gramática livre de contexto na qual as ações semânticas são inserid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 lado dire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s produ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{imprimir(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val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op_aditiv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{imprimir(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op_aditiv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lexema)}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vez que uma regra de produção é usada no processo de reconhecimento de uma sentença, os símbolos gramaticais são alocados junto com seu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s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esquemas de tradução podemos determinar a ordem na qual ações e avaliações de atributos acontec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Top-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ções L-Atribuídas serão implementadas durante um analisador pred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emos esquemas de tra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+ T      { E.val =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val + T.val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T      { E.val =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val - T.val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T              { E.val = T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 -&gt; ( E )          { T.val = E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 -&gt;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m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{ T.val = num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quema de tradução com uma gramática recursiva à esque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5760" y="1577880"/>
            <a:ext cx="83642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&gt; 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i =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.val = R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i = R.i +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i = R.i -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.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-&gt; ( E )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val := E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-&gt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val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ma de tradução transformado com uma gramática recursiva à direi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2728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00000" y="2492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.val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79280" y="1916280"/>
            <a:ext cx="647640" cy="50472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74920" y="2924280"/>
            <a:ext cx="1440" cy="576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35280" y="2924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68360" y="27082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1916280"/>
            <a:ext cx="792000" cy="4330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64000" y="24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3640" y="342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T.val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419640" y="2852640"/>
            <a:ext cx="28728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4720" y="2852640"/>
            <a:ext cx="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2781360"/>
            <a:ext cx="122400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42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9440" y="44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3860640"/>
            <a:ext cx="180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356000" y="3860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3645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64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.va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84720" y="3860640"/>
            <a:ext cx="0" cy="648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580000" y="3860640"/>
            <a:ext cx="21600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50280" y="43862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88000" y="3860640"/>
            <a:ext cx="1008360" cy="5050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49800" y="537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56360" y="4797360"/>
            <a:ext cx="144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516720" y="4797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56720" y="4848120"/>
            <a:ext cx="144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14520" y="53006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00720" y="3860640"/>
            <a:ext cx="93528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20000" y="465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2924280"/>
            <a:ext cx="93492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4520" y="6308640"/>
            <a:ext cx="49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a expressão 9 – 5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samos atributos herdados e sintetizados, usamos as heurísticas a seguir para criar esquemas de tra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herd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um símbolo do lado direito precisa ser calculado em uma a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 não pode se referir a uma atributo sintetizado de um símbolo à direita da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sintetiz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um não terminal à esquerda deve ser calculado somente após o cálculo de todos os atributos que o mesmo refer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nsando na árvore de derivação da sentença sob análise, é como se a cada nó da árvore (símbolo gramatical) correspondesse a uma instanciação de um símbolo e seu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mo se o nó contivesse campos para armazenar valores correspondentes ao símb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28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 addTAbSimb( id.lexeme, type.tipo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557360"/>
            <a:ext cx="2592360" cy="1079640"/>
          </a:xfrm>
          <a:prstGeom prst="wedgeEllipseCallout">
            <a:avLst>
              <a:gd name="adj1" fmla="val -56675"/>
              <a:gd name="adj2" fmla="val 8352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xeme é um atributo do át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3360"/>
            <a:ext cx="3600360" cy="1584360"/>
          </a:xfrm>
          <a:prstGeom prst="wedgeEllipseCallout">
            <a:avLst>
              <a:gd name="adj1" fmla="val 38888"/>
              <a:gd name="adj2" fmla="val -12815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ímbolo gramatical type tem um atributo tipo que indica qual o tipo enco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08-16T02:06:42Z</dcterms:modified>
  <cp:revision>675</cp:revision>
  <dc:subject/>
  <dc:title>Aula 1802 – Fases de um compilador</dc:title>
</cp:coreProperties>
</file>